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018BB-86AD-4E21-A530-3EC093C0B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989F7-63B2-4ED4-AB8A-C05B78A57A7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AE908-E1FA-41C5-B34C-7213BBD478E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9F720-926D-48E3-A0F5-B0348A7E2AD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27831-1EC7-482E-B876-802D722A95D7}"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A1606D2B-6EB7-452C-97E4-E0440125EA25}"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6297E-40CA-49CB-B90F-811C4AAC412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3F77A-FB3F-4856-A1F0-10F58819A7D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C5E66-4A65-4991-B4E2-26BA93451FF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B41C5-A52C-40D5-B7FC-2732DAB6EEC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4EEE9-2C81-4DE1-910C-F2190670894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BDD79-218E-4460-AFD1-119BD956F26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7F304-22DA-4640-872C-3A4A541E46E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0B215-7875-4716-9FD0-485E9BC4D0F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794B3-D376-4B42-A76D-30AE3868F69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E32D1-6C99-4CE6-9B76-E0BE251CD22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EC6D3-17A1-4907-B6E8-21AC4F8B701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F610E-548D-4D7B-8D73-0FB2C81E4EA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D6003-978F-427B-B2C6-48CB3AF49A0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8CBBB-A676-461A-9D91-66B602AB93D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6EE86-C0AD-4F52-B71D-86C3672D8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19A8-F9CC-4F46-A4D3-C8F345CC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96B61-855B-478C-96BF-6889E006B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4004D-5055-4AD2-AFF8-AF5F63FEA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BB8A0-03BC-44C1-8F6A-1662FDD67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76DEA-10A0-4D58-8978-62FEBFC72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C1C5B-A68A-446D-ADD6-E659684B1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A67E6-4295-4340-859A-FD3DA984C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5518C-365B-4C79-A8EA-255D4A501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E40C3-C490-4D38-9912-1592F31D5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098EF-9425-48FD-90B7-DE61CABA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04B7A-09FF-4D0B-9AA3-9A1761A39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F2F03-7793-4124-A89F-281E0BF76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F07AE-9A7C-47E9-8EE6-4E4132319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03091-E26E-4E9E-9DA0-00FFE0E60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B9B2B-5394-4D15-BD8D-4F3C81C12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66553-0524-436D-AE05-A74FBF8DD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3CD1-77BE-4A6F-A059-71697BF7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0AA9-4469-4FF7-B3AA-168E9C86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BECE-0FFE-4B69-A530-DC1B32E4F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BE9D-DCBF-49C9-B1DA-7409597A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DC8C-0AE9-44DA-86B5-239046C8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45811-BC47-4075-A55A-4E3FCC26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4E84-79FD-4D45-A88B-8F894D497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430A6-69AA-49E7-9B82-7308D97DFAEA}"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5CA25-97E7-477A-96C9-2A1FFE19D852}"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644400" y="87624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post-it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75594-6C7F-4E05-BC29-CD2BC11F4779}"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012C9-451A-4F31-A7BC-6CA781D8433F}"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30T02:08:44Z</dcterms:modified>
  <cp:revision>40</cp:revision>
  <dc:subject/>
  <dc:title>PLMLC Leadership Series  Thunder Bay Region Day 1</dc:title>
</cp:coreProperties>
</file>